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A92A-28D5-484A-9877-360572A5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8501-CBD2-4D85-92A4-D92ADD98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13A1-7A00-4EC9-AA45-D0A2C743D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0C13-4562-490C-AB63-F19040157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BA52-0EB5-4F4F-BED1-428ABB4D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131C-4996-4724-A6E1-F1F1AE56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E378-2017-4198-84CA-ECEE1D7D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2A1C-CA7D-45DC-8F61-F38C53B0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31A2-6260-4A03-9A20-7F1F2B50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4F97-1544-4798-A4B3-494978EE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92F5-D766-4A6F-AB0D-D082145D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7D48-2C4B-4DE3-8DC9-56A3714B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DBC0-F545-480C-895E-6452B1915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you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15:05:10Z</dcterms:created>
  <dc:creator>Gene Hamrick</dc:creator>
  <dc:description/>
  <dc:language>en-US</dc:language>
  <cp:lastModifiedBy>Gene Hamrick</cp:lastModifiedBy>
  <dcterms:modified xsi:type="dcterms:W3CDTF">2010-11-29T15:06:15Z</dcterms:modified>
  <cp:revision>2</cp:revision>
  <dc:subject/>
  <dc:title>Internet Safety</dc:title>
</cp:coreProperties>
</file>